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BF8B-50C5-4329-8BC8-B4AAC0940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2A4-76AB-4E4D-B541-4A26FA9EC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1192-057F-429A-ADDA-1597EEF4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6F68-03A1-49AF-963A-7CD0CBC99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F2B4-6485-431C-932C-775CE55A1C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24CF-0093-4EE6-A468-FF6396CCB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AF6C-FBAA-4B1A-956A-77BC7AE4E7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6F18-9E80-4A2D-93E6-DA448625AE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A98A-A599-49DB-8ADA-7DEFC1DCC1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120E-B843-4BBE-810C-7891C52C7A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139B-A0F8-4936-AFBB-F25B7051F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10F5-0952-4D79-9DD1-18313F502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8046-DDD9-43C0-B6FB-9A9022396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C4F8-DFB3-4924-B987-18B2E636C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D05E-DC8C-49EE-BD84-09B91D44F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C360-15D4-42F0-8825-431604F12D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8881-2FE4-4BFE-9EC9-AD3475EE77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C36-FC55-4BE2-9103-279C21DB03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EA8-B9D2-4290-B0EF-6B79F0BAE5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983-ED1A-4D44-BA52-CEDDFD00F3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6E3-2FEF-4D97-9DB1-D8700067BA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0CA-F670-48C1-92E5-BC4C71B2A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6D85-21C1-477A-8222-32C38E2FA2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CBE-85E7-4E9A-BC47-0CD16429C8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2C-EC35-4D45-B4FC-C547EDD429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588-EE2D-4312-81F6-2FD08D03D5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00F-1259-4282-AE2A-84292E3F1F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592-C54A-4E61-998C-E80B77537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D9A-9D9F-4201-A819-359FE4E065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CF5-D5FF-4C14-B8E5-C8831022DB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9875-4AD8-4158-BB4D-BE4F733969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0F35-FE91-4B18-8B53-F0862978E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A757-4133-4EEC-A0A7-EE3944667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108C-3B00-4157-80EE-3EE284153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E432-C194-423A-B9AA-E3338D33A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D0D0-EE9E-451F-9451-5AC190207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A44-D7A6-4937-BD71-E4F3F190FB61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F56C-D717-4C8B-85AA-CFA506DC143C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CA6A-A5A9-4313-A51A-B822FC2D0023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518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271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31640" y="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Times New Roman"/>
              </a:rPr>
              <a:t>Школа випереджаючої освіти                    для   сталого розвитку – стабільне майбутнє нашої України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 rot="5400000">
            <a:off x="-721080" y="1231920"/>
            <a:ext cx="246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 Р О Е К 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2843280" y="2060640"/>
            <a:ext cx="6049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бота заступника директора  Жовток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нської загальноосвітньої школи І – ІІІ ст. Гошиної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4859280" y="4437000"/>
            <a:ext cx="4105440" cy="165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Єдиний спосіб передбачи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бутнє – це створити й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т і тепер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ен К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4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6F9-4C13-47F0-A8C8-B37A52D5ABD3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684360" y="189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РЯМКИ  РЕАЛІЗАЦІЇ  ПРОЕКТУ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ажливі кроки до педагогічної майстерності – атестація педагогічних працівників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2349360"/>
          <a:ext cx="8280360" cy="405792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робл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66"/>
                      </a:solidFill>
                    </a:lnL>
                    <a:lnR w="4320">
                      <a:solidFill>
                        <a:srgbClr val="ff0066"/>
                      </a:solidFill>
                    </a:lnR>
                    <a:lnT w="4320">
                      <a:solidFill>
                        <a:srgbClr val="ff0066"/>
                      </a:solidFill>
                    </a:lnT>
                    <a:lnB w="43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ляхи вирішення проблеми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66"/>
                      </a:solidFill>
                    </a:lnL>
                    <a:lnR w="4320">
                      <a:solidFill>
                        <a:srgbClr val="ff0066"/>
                      </a:solidFill>
                    </a:lnR>
                    <a:lnT w="4320">
                      <a:solidFill>
                        <a:srgbClr val="ff0066"/>
                      </a:solidFill>
                    </a:lnT>
                    <a:lnB w="432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35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я увага до роботи вчителя в міжатестаційний пері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ік атестації на плечі вчителя лягає непомірний тяг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жди витримується співвідношення між витраченими зусиллями і результатами роботи вчител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66"/>
                      </a:solidFill>
                    </a:lnL>
                    <a:lnR w="4320">
                      <a:solidFill>
                        <a:srgbClr val="ff0066"/>
                      </a:solidFill>
                    </a:lnR>
                    <a:lnT w="4320">
                      <a:solidFill>
                        <a:srgbClr val="ff0066"/>
                      </a:solidFill>
                    </a:lnT>
                    <a:lnB w="43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ен вчитель має свій особистий сай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і родзинки свого педагогічного досвіду розміщує на веб - сторінках ( друковані матеріали, фотографії, відеозапис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им чином, відстежується результат роботи вчителя протягом міжатестаційного пері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66"/>
                      </a:solidFill>
                    </a:lnL>
                    <a:lnR w="4320">
                      <a:solidFill>
                        <a:srgbClr val="ff0066"/>
                      </a:solidFill>
                    </a:lnR>
                    <a:lnT w="4320">
                      <a:solidFill>
                        <a:srgbClr val="ff0066"/>
                      </a:solidFill>
                    </a:lnT>
                    <a:lnB w="432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0E0D-647C-4F67-B68E-8BCA4C14F3BB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800000"/>
                </a:solidFill>
                <a:latin typeface="Arial"/>
              </a:rPr>
              <a:t>САМООСВІТА</a:t>
            </a:r>
            <a:endParaRPr b="0" lang="en-US" sz="54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11280" y="2565360"/>
          <a:ext cx="8086680" cy="3760920"/>
        </p:xfrm>
        <a:graphic>
          <a:graphicData uri="http://schemas.openxmlformats.org/drawingml/2006/table">
            <a:tbl>
              <a:tblPr/>
              <a:tblGrid>
                <a:gridCol w="4043160"/>
                <a:gridCol w="40435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     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робл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ляхи вирішення проблеми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32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Формаліз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Відсутність постійного контро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Недостатня кількість методичних матеріалів через їх дороговиз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Системна самоосві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Складається план індивідуальної роботи на 5 ро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Чітко організований контро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Матеріали розміщені на особистому сайт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39"/>
          <p:cNvSpPr/>
          <p:nvPr/>
        </p:nvSpPr>
        <p:spPr>
          <a:xfrm>
            <a:off x="971640" y="1341360"/>
            <a:ext cx="7848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то дорожить життям думки, той знає дуже добре, що справжня освіта – це тільки самоосвіта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. Писарє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EFA-2A29-4733-8F76-9F18BF0E7D27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53272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Активізувати самостійну діяльність педагогів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Спрямувати увагу на аналіз особистого досвіду викладання;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Формула “ Освіта на все життя “ замінюється новою                                  “ Освіта впродовж життя “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2124000" y="314172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ляхи вирішення проблеми: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24000" y="3716280"/>
            <a:ext cx="7272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истанційна осві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рнет – те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часть в Інтернет – конференціях, Інтернет – форум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атове спілкування з коле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24000" y="5516640"/>
            <a:ext cx="852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Monotype Corsiva"/>
              </a:rPr>
              <a:t>Післядипломна освіта має стати більш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Monotype Corsiva"/>
              </a:rPr>
              <a:t>                                                           </a:t>
            </a:r>
            <a:r>
              <a:rPr b="1" lang="uk-UA" sz="3200" spc="-1" strike="noStrike">
                <a:solidFill>
                  <a:srgbClr val="800000"/>
                </a:solidFill>
                <a:latin typeface="Monotype Corsiva"/>
              </a:rPr>
              <a:t>персоніфікова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2050920" y="404640"/>
            <a:ext cx="451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іслядипломна освіт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 Е Т 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B55-28CC-4285-9BCD-158C05B88C37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324000" y="260280"/>
            <a:ext cx="81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редметні  МО  вчителів  – центр 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етодичної  роботи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611280" y="2349360"/>
            <a:ext cx="4537080" cy="1657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fa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чна ро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невеликих пед.колекти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є перейти на вищий рівен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окружні і районні метод.об'єднанн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3995640" y="4365720"/>
            <a:ext cx="4537080" cy="165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fa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обласному рів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са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 вчителів - предмет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 flipH="1">
            <a:off x="4211640" y="1484280"/>
            <a:ext cx="7207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932360" y="1484280"/>
            <a:ext cx="1370160" cy="25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8DEC-0B8C-4200-A250-F43A8EC34B50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4915080" y="1413000"/>
            <a:ext cx="88560" cy="2232000"/>
          </a:xfrm>
          <a:custGeom>
            <a:avLst/>
            <a:gdLst>
              <a:gd name="textAreaLeft" fmla="*/ 0 w 88560"/>
              <a:gd name="textAreaRight" fmla="*/ 88920 w 88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 flipH="1">
            <a:off x="6064200" y="1413000"/>
            <a:ext cx="884160" cy="2232000"/>
          </a:xfrm>
          <a:custGeom>
            <a:avLst/>
            <a:gdLst>
              <a:gd name="textAreaLeft" fmla="*/ 360 w 884160"/>
              <a:gd name="textAreaRight" fmla="*/ 884880 w 8841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800000"/>
                </a:solidFill>
                <a:latin typeface="Arial"/>
              </a:rPr>
              <a:t>Нові форми методичної роботи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>
            <a:off x="971640" y="1700280"/>
            <a:ext cx="180000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ж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андар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0"/>
          <p:cNvSpPr/>
          <p:nvPr/>
        </p:nvSpPr>
        <p:spPr>
          <a:xfrm>
            <a:off x="5867280" y="3860640"/>
            <a:ext cx="180036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ич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1"/>
          <p:cNvSpPr/>
          <p:nvPr/>
        </p:nvSpPr>
        <p:spPr>
          <a:xfrm>
            <a:off x="3780000" y="1700280"/>
            <a:ext cx="1800000" cy="865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рніс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ецкур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2"/>
          <p:cNvSpPr/>
          <p:nvPr/>
        </p:nvSpPr>
        <p:spPr>
          <a:xfrm>
            <a:off x="6443640" y="1773360"/>
            <a:ext cx="180036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3"/>
          <p:cNvSpPr/>
          <p:nvPr/>
        </p:nvSpPr>
        <p:spPr>
          <a:xfrm>
            <a:off x="3924360" y="2924280"/>
            <a:ext cx="18000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та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дагогіч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4"/>
          <p:cNvSpPr/>
          <p:nvPr/>
        </p:nvSpPr>
        <p:spPr>
          <a:xfrm>
            <a:off x="1258920" y="3141720"/>
            <a:ext cx="180036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дагогіч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лімпі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2050920" y="4076640"/>
            <a:ext cx="180036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х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ворч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6588000" y="299736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дконсилі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7"/>
          <p:cNvSpPr/>
          <p:nvPr/>
        </p:nvSpPr>
        <p:spPr>
          <a:xfrm>
            <a:off x="4510080" y="1395360"/>
            <a:ext cx="123840" cy="309600"/>
          </a:xfrm>
          <a:custGeom>
            <a:avLst/>
            <a:gdLst>
              <a:gd name="textAreaLeft" fmla="*/ 0 w 123840"/>
              <a:gd name="textAreaRight" fmla="*/ 124200 w 12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8"/>
          <p:cNvSpPr/>
          <p:nvPr/>
        </p:nvSpPr>
        <p:spPr>
          <a:xfrm>
            <a:off x="2916360" y="1413000"/>
            <a:ext cx="484200" cy="165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9"/>
          <p:cNvSpPr/>
          <p:nvPr/>
        </p:nvSpPr>
        <p:spPr>
          <a:xfrm flipH="1">
            <a:off x="5867280" y="1341360"/>
            <a:ext cx="217440" cy="244800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3492360" y="1413000"/>
            <a:ext cx="266760" cy="2520720"/>
          </a:xfrm>
          <a:custGeom>
            <a:avLst/>
            <a:gdLst>
              <a:gd name="textAreaLeft" fmla="*/ 0 w 266760"/>
              <a:gd name="textAreaRight" fmla="*/ 267120 w 266760"/>
              <a:gd name="textAreaTop" fmla="*/ 0 h 2520720"/>
              <a:gd name="textAreaBottom" fmla="*/ 2520720 h 252072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3"/>
          <p:cNvSpPr/>
          <p:nvPr/>
        </p:nvSpPr>
        <p:spPr>
          <a:xfrm>
            <a:off x="2050920" y="1413000"/>
            <a:ext cx="123840" cy="309600"/>
          </a:xfrm>
          <a:custGeom>
            <a:avLst/>
            <a:gdLst>
              <a:gd name="textAreaLeft" fmla="*/ 0 w 123840"/>
              <a:gd name="textAreaRight" fmla="*/ 124200 w 12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4"/>
          <p:cNvSpPr/>
          <p:nvPr/>
        </p:nvSpPr>
        <p:spPr>
          <a:xfrm flipH="1">
            <a:off x="7379640" y="1413000"/>
            <a:ext cx="144360" cy="360360"/>
          </a:xfrm>
          <a:custGeom>
            <a:avLst/>
            <a:gdLst>
              <a:gd name="textAreaLeft" fmla="*/ -360 w 144360"/>
              <a:gd name="textAreaRight" fmla="*/ 14436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8" h="195">
                <a:moveTo>
                  <a:pt x="78" y="0"/>
                </a:moveTo>
                <a:cubicBezTo>
                  <a:pt x="58" y="49"/>
                  <a:pt x="37" y="96"/>
                  <a:pt x="19" y="146"/>
                </a:cubicBezTo>
                <a:cubicBezTo>
                  <a:pt x="13" y="162"/>
                  <a:pt x="0" y="195"/>
                  <a:pt x="0" y="1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5092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Monotype Corsiva"/>
              </a:rPr>
              <a:t>Участь у районних, обласних, міжнародних  проектах активізують  пізнавальну  діяльність  в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0DB-E283-4770-90AE-6E0ED5C58360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Впровадження інформаційних технологій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916280"/>
          <a:ext cx="8229600" cy="424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роблема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ляхи вирішення пробл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37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коли забезпечені комп'ютерною технікою, але не всі вчителі хочуть опановувати її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Відсутність мультимедійних засоб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ід час атестування враховувати рівень володіння комп'ютер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Зобов'язати кожного вчителя пройти відповідні курс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Максимально прискорити процес створення мультимедійних навчальних посібників з усіх навчальних предмет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2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4C0-F253-4C85-A07D-233158A10A62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468360" y="115920"/>
            <a:ext cx="523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ільний час учителя - це 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132000" y="1268280"/>
            <a:ext cx="6121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рінь, який живить корені педагогічної творчост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.О. Сухомлинс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3068640"/>
          <a:ext cx="8291520" cy="280836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роблема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ляхи вирішення пробл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22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Значна перегрузка вчителя непотрібною “ рутинною ” робото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Інтенсифікація, науков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організація прац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Використання електронн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конструктор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976-E0BB-4330-8BCD-5C3FC35C1DD7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c2c84"/>
                </a:solidFill>
                <a:latin typeface="Arial"/>
              </a:rPr>
              <a:t>Забезпечення соціального захисту вчителя в умовах ринкової економік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Диференційована зарплата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Добре обладнаний навчальний та методичний кабінети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Кімната емоційного розвантаження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Домашня бібліотека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Комп</a:t>
            </a: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ютер вдома і на робочому місці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Доступ до інтернет-джерел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283" name="Picture 4" descr="b1292"/>
          <p:cNvPicPr/>
          <p:nvPr/>
        </p:nvPicPr>
        <p:blipFill>
          <a:blip r:embed="rId7"/>
          <a:stretch/>
        </p:blipFill>
        <p:spPr>
          <a:xfrm>
            <a:off x="6227640" y="3284640"/>
            <a:ext cx="26924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6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7D6C-B5CF-4DCA-9A6F-D5CF7A5DF476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348000" y="2205000"/>
            <a:ext cx="2514600" cy="2400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00"/>
                </a:solidFill>
                <a:latin typeface="Arial"/>
              </a:rPr>
              <a:t>ПРОФЕСІОГ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250920" y="1413000"/>
            <a:ext cx="3314520" cy="4000320"/>
          </a:xfrm>
          <a:custGeom>
            <a:avLst/>
            <a:gdLst>
              <a:gd name="textAreaLeft" fmla="*/ 161640 w 3314520"/>
              <a:gd name="textAreaRight" fmla="*/ 3152880 w 3314520"/>
              <a:gd name="textAreaTop" fmla="*/ 161640 h 4000320"/>
              <a:gd name="textAreaBottom" fmla="*/ 3838680 h 4000320"/>
            </a:gdLst>
            <a:ahLst/>
            <a:rect l="textAreaLeft" t="textAreaTop" r="textAreaRight" b="textAreaBottom"/>
            <a:pathLst>
              <a:path w="21600" h="26069">
                <a:moveTo>
                  <a:pt x="3600" y="0"/>
                </a:moveTo>
                <a:arcTo wR="3600" hR="3600" stAng="16200000" swAng="-5400000"/>
                <a:lnTo>
                  <a:pt x="0" y="22469"/>
                </a:lnTo>
                <a:arcTo wR="3600" hR="3600" stAng="10800000" swAng="-5400000"/>
                <a:lnTo>
                  <a:pt x="18000" y="26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P22 Kilkenny Pro"/>
              </a:rPr>
              <a:t>Професійно-педагогічна компетен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3366ff"/>
                </a:solidFill>
                <a:latin typeface="Monotype Corsiva"/>
              </a:rPr>
              <a:t>Педагогічні вміння, навич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фесійна зріл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нування, організація робочого місця, навчального процес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ікавитися фаховою літературо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мовдосконал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налітич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унікатив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дактич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в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дагогічне передбач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рцептив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5580000" y="1484280"/>
            <a:ext cx="3314880" cy="4000680"/>
          </a:xfrm>
          <a:custGeom>
            <a:avLst/>
            <a:gdLst>
              <a:gd name="textAreaLeft" fmla="*/ 161640 w 3314880"/>
              <a:gd name="textAreaRight" fmla="*/ 3153240 w 3314880"/>
              <a:gd name="textAreaTop" fmla="*/ 161640 h 4000680"/>
              <a:gd name="textAreaBottom" fmla="*/ 3839040 h 4000680"/>
            </a:gdLst>
            <a:ahLst/>
            <a:rect l="textAreaLeft" t="textAreaTop" r="textAreaRight" b="textAreaBottom"/>
            <a:pathLst>
              <a:path w="21600" h="26068">
                <a:moveTo>
                  <a:pt x="3600" y="0"/>
                </a:moveTo>
                <a:arcTo wR="3600" hR="3600" stAng="16200000" swAng="-5400000"/>
                <a:lnTo>
                  <a:pt x="0" y="22468"/>
                </a:lnTo>
                <a:arcTo wR="3600" hR="3600" stAng="10800000" swAng="-5400000"/>
                <a:lnTo>
                  <a:pt x="18000" y="260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P22 Kilkenny Pro"/>
              </a:rPr>
              <a:t>Психологічні якості, риси 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3366ff"/>
                </a:solidFill>
                <a:latin typeface="Monotype Corsiva"/>
              </a:rPr>
              <a:t>Морально-вольові, емоцій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циплінован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есн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рпі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зірець для ді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бов до дітей, розуміння їх, віра в 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3366ff"/>
                </a:solidFill>
                <a:latin typeface="Monotype Corsiva"/>
              </a:rPr>
              <a:t>Інтелектуаль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тиміз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ирокий світогля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лігентн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оглядні усвідомлення об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з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оглядна відповідаль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276720" y="4869000"/>
            <a:ext cx="2808000" cy="1989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P22 Kilkenny Pro"/>
              </a:rPr>
              <a:t>Стосунки в побуті й особистому житт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рний сі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н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рботлива мати, голова сі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ацелюбн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бить мистец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ає власне хоб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64328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5292720" y="4365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492360" y="443700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c2c84"/>
                </a:solidFill>
                <a:latin typeface="Arial"/>
              </a:rPr>
              <a:t>Кожен освітянин повинен знати, до чого йому прагнути…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912-4A82-4B16-A5F5-66D6BDA15F36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c2c84"/>
                </a:solidFill>
                <a:latin typeface="Arial"/>
              </a:rPr>
              <a:t>Результати інноваційного пошуку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e121f"/>
                </a:solidFill>
                <a:latin typeface="Arial"/>
              </a:rPr>
              <a:t>Новизна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c2c84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2c2c84"/>
                </a:solidFill>
                <a:latin typeface="Arial"/>
              </a:rPr>
              <a:t>Встановлена змістовна суть творчої особистості вчителя школи нового типу; розроблена теоретична модель особистості вчителя нового типу, намічені практичні шляхи щодо створення цієї моделі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a9638"/>
                </a:solidFill>
                <a:latin typeface="Arial"/>
              </a:rPr>
              <a:t>Теоретичне значення результатів</a:t>
            </a:r>
            <a:r>
              <a:rPr b="0" lang="uk-UA" sz="20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c2c84"/>
                </a:solidFill>
                <a:latin typeface="Arial"/>
              </a:rPr>
              <a:t>Проаналізовано основні риси особистості учителя; сформовано його ідеальний образ відповідно до умов суспільства сталого розвитку; проаналізовано суперечності ідеального образу вчителя з сучасними реаліями; розкрито значення науково-методичної роботи у становленні особистості вчителя та намічено шляхи вдосконалення цієї роботи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68000" y="1413000"/>
            <a:ext cx="835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542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еалізація планів інтеграції України до європейського освітнього простору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обхідність дати адекватну відповідь на існуючу ресурсну та економічну кризу, погіршення стану довкілля та здоров'я населення Україн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1" name="WordArt 9"/>
          <p:cNvSpPr txBox="1"/>
          <p:nvPr/>
        </p:nvSpPr>
        <p:spPr>
          <a:xfrm>
            <a:off x="684360" y="189000"/>
            <a:ext cx="77040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ьність  інноваційного  пошуку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99B-21C0-4B01-81D9-92CF0C9FFC84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82440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Arial"/>
              </a:rPr>
              <a:t>Школа випереджаючої освіти для сталого розвитку – стабільне майбутнє України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0872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Я мрію? Ми мріємо? Так, але тільки частково.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еликі справи починаються із мрій, чи не так?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299" name="Picture 4" descr="327 копия"/>
          <p:cNvPicPr/>
          <p:nvPr/>
        </p:nvPicPr>
        <p:blipFill>
          <a:blip r:embed="rId1"/>
          <a:stretch/>
        </p:blipFill>
        <p:spPr>
          <a:xfrm>
            <a:off x="1619280" y="2924280"/>
            <a:ext cx="2857320" cy="3457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lesson_beauty_in1 копия"/>
          <p:cNvPicPr/>
          <p:nvPr/>
        </p:nvPicPr>
        <p:blipFill>
          <a:blip r:embed="rId2"/>
          <a:stretch/>
        </p:blipFill>
        <p:spPr>
          <a:xfrm>
            <a:off x="6156360" y="3573360"/>
            <a:ext cx="2247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5C5-4C0D-48F5-8803-BD47AD82B0B3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 rot="14628000">
            <a:off x="3384360" y="4689360"/>
            <a:ext cx="936720" cy="1152360"/>
          </a:xfrm>
          <a:prstGeom prst="upArrow">
            <a:avLst>
              <a:gd name="adj1" fmla="val 50000"/>
              <a:gd name="adj2" fmla="val 30755"/>
            </a:avLst>
          </a:prstGeom>
          <a:solidFill>
            <a:srgbClr val="ff8e1d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 rot="4573800">
            <a:off x="5465160" y="1814400"/>
            <a:ext cx="936720" cy="708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8e1d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 rot="7239000">
            <a:off x="5914440" y="4168440"/>
            <a:ext cx="936360" cy="64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8e1d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 rot="18347400">
            <a:off x="2042280" y="3223080"/>
            <a:ext cx="936720" cy="77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8e1d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0920" y="333360"/>
            <a:ext cx="889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ова школа ставить за головну мету збудити, дати виявитися самостійним творчим силам як вчителя, так і учня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.Ру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627280" y="1773360"/>
            <a:ext cx="3672000" cy="33890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учасне суспі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авить перед навчаль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кладами і насампер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едагогами 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дготовки випускникі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да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95280" y="1484280"/>
            <a:ext cx="2376360" cy="16556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ну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даптуват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змін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иттє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итуаці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6084720" y="4653000"/>
            <a:ext cx="2880000" cy="1989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рамо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цюв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інформац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6300720" y="1628640"/>
            <a:ext cx="2629080" cy="19177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амостій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ритично мисл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395280" y="4365720"/>
            <a:ext cx="2879640" cy="1989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мунікабель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E496-7A0E-4C2A-8685-37F2C9876EE2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c2c84"/>
                </a:solidFill>
                <a:latin typeface="Arial"/>
              </a:rPr>
              <a:t>Вимоги до вчителя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C75-41A5-43C3-9A61-7787DE8300A7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 rot="7639200">
            <a:off x="4703400" y="1577520"/>
            <a:ext cx="863640" cy="1063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93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 rot="14582400">
            <a:off x="3393720" y="1618560"/>
            <a:ext cx="863640" cy="933480"/>
          </a:xfrm>
          <a:prstGeom prst="triangle">
            <a:avLst>
              <a:gd name="adj" fmla="val 28111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24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755640" y="5493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ково -  методична  робота  в  школі  спрямована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 rot="10800000">
            <a:off x="4066920" y="1483920"/>
            <a:ext cx="863640" cy="208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250920" y="2637000"/>
            <a:ext cx="3924360" cy="122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ї майстер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жного в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148360" y="256536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агачення і розви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ворчого потенціа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д.колект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учнів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755640" y="4221000"/>
            <a:ext cx="8388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Monotype Corsiva"/>
              </a:rPr>
              <a:t>“ </a:t>
            </a:r>
            <a:r>
              <a:rPr b="0" lang="uk-UA" sz="3600" spc="-1" strike="noStrike">
                <a:solidFill>
                  <a:srgbClr val="800000"/>
                </a:solidFill>
                <a:latin typeface="Monotype Corsiva"/>
              </a:rPr>
              <a:t>Краще  мати  в  колективі  чотирьо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Monotype Corsiva"/>
              </a:rPr>
              <a:t>талановитих  вихователів, ніж  сор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0000"/>
                </a:solidFill>
                <a:latin typeface="Monotype Corsiva"/>
              </a:rPr>
              <a:t>бездарних  і  невихованих “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CA5-9F39-4E4E-A725-ED93805F4219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Times New Roman"/>
              </a:rPr>
              <a:t>Науково - методична робота </a:t>
            </a:r>
            <a:br>
              <a:rPr sz="4000"/>
            </a:br>
            <a:r>
              <a:rPr b="1" lang="uk-UA" sz="4000" spc="-1" strike="noStrike">
                <a:solidFill>
                  <a:srgbClr val="800000"/>
                </a:solidFill>
                <a:latin typeface="Times New Roman"/>
              </a:rPr>
              <a:t>в школі потребує багатьох змін: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9120" indent="-33912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М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отивація професійного зростання і 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самовдосконалення вчителів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c2c84"/>
              </a:solidFill>
              <a:latin typeface="Arial"/>
            </a:endParaRPr>
          </a:p>
          <a:p>
            <a:pPr marL="339120" indent="-339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Розуміння значущості психолого – педагогічної 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культури вчителя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c2c84"/>
              </a:solidFill>
              <a:latin typeface="Arial"/>
            </a:endParaRPr>
          </a:p>
          <a:p>
            <a:pPr marL="339120" indent="-339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Самооцінка і потяг до самореалізації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c2c84"/>
              </a:solidFill>
              <a:latin typeface="Arial"/>
            </a:endParaRPr>
          </a:p>
          <a:p>
            <a:pPr marL="339120" indent="-33912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Рівень володіння інформаційно – комунікаційними     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33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2c2c84"/>
                </a:solidFill>
                <a:latin typeface="Arial"/>
              </a:rPr>
              <a:t>технологіями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7C5-EB54-45DE-A54F-1D7E438D911D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8160" y="1483920"/>
            <a:ext cx="7845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5600" indent="-43560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лідження ролі, змісту та форм проведення методичних заходів у вихованні творчого потенціалу вчителя для реалізації завдань випереджаючої освіти  для сталого розвитку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468360" y="333360"/>
            <a:ext cx="3733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  ПРОЕКТУ: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3059280" y="3860640"/>
            <a:ext cx="422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'ЄКТ дослідження: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308600" y="4941720"/>
            <a:ext cx="78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истісно – професійний розви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mblem"/>
          <p:cNvPicPr/>
          <p:nvPr/>
        </p:nvPicPr>
        <p:blipFill>
          <a:blip r:embed="rId1"/>
          <a:stretch/>
        </p:blipFill>
        <p:spPr>
          <a:xfrm>
            <a:off x="324000" y="2421000"/>
            <a:ext cx="699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3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F7AC-D4CB-410D-AD5F-15C3A7BDE232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0"/>
          <p:cNvSpPr/>
          <p:nvPr/>
        </p:nvSpPr>
        <p:spPr>
          <a:xfrm>
            <a:off x="4788000" y="4149720"/>
            <a:ext cx="28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5796000" y="3213000"/>
            <a:ext cx="720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4"/>
          <p:cNvSpPr/>
          <p:nvPr/>
        </p:nvSpPr>
        <p:spPr>
          <a:xfrm flipH="1" flipV="1">
            <a:off x="4859280" y="2276280"/>
            <a:ext cx="362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5219640" y="400536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9"/>
          <p:cNvSpPr/>
          <p:nvPr/>
        </p:nvSpPr>
        <p:spPr>
          <a:xfrm flipH="1">
            <a:off x="4140000" y="4076640"/>
            <a:ext cx="577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916000" y="4005360"/>
            <a:ext cx="7938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 flipH="1">
            <a:off x="2050560" y="4005360"/>
            <a:ext cx="1584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00"/>
                </a:solidFill>
                <a:latin typeface="Times New Roman"/>
              </a:rPr>
              <a:t>СУЧАСНИЙ  УЧИТЕЛЬ</a:t>
            </a:r>
            <a:endParaRPr b="0" lang="en-US" sz="4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250920" y="1557360"/>
            <a:ext cx="230328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ДОСТАТ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79280" y="3573360"/>
            <a:ext cx="230364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З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ОР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250920" y="2565360"/>
            <a:ext cx="230328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І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РІВНОВА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250920" y="4581360"/>
            <a:ext cx="230328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ОК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ТЕЛЕКТУАЛЬ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492360" y="1413000"/>
            <a:ext cx="230364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ТЕРІ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ЛЕ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6588000" y="2997360"/>
            <a:ext cx="230364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ЗИТИ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АШТ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588000" y="2205000"/>
            <a:ext cx="2303640" cy="50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БРОЗИЧ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6588000" y="1557360"/>
            <a:ext cx="2303640" cy="503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ЕАТИВ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6516720" y="4149720"/>
            <a:ext cx="2303280" cy="574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МОКРАТИЧ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6516720" y="4941720"/>
            <a:ext cx="2303280" cy="7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ФЕСІ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СПІ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6516720" y="5877000"/>
            <a:ext cx="2303280" cy="50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ПОВІДАЛЬ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4427640" y="6093000"/>
            <a:ext cx="1871640" cy="574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МІ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3995640" y="5373720"/>
            <a:ext cx="1943280" cy="50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ВОР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2916360" y="4653000"/>
            <a:ext cx="2520720" cy="574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ЦИПЛІ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324000" y="5516640"/>
            <a:ext cx="1654200" cy="50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ИВ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1979640" y="6021360"/>
            <a:ext cx="2303280" cy="504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КРИТИЧ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2700360" y="2421000"/>
            <a:ext cx="3529080" cy="1942920"/>
          </a:xfrm>
          <a:custGeom>
            <a:avLst/>
            <a:gdLst>
              <a:gd name="textAreaLeft" fmla="*/ 805680 w 3529080"/>
              <a:gd name="textAreaRight" fmla="*/ 2723400 w 3529080"/>
              <a:gd name="textAreaTop" fmla="*/ 443520 h 1942920"/>
              <a:gd name="textAreaBottom" fmla="*/ 14994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a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ЧАСНИЙ В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H="1" flipV="1">
            <a:off x="2627280" y="213336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H="1">
            <a:off x="2556000" y="378936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2411280" y="3860640"/>
            <a:ext cx="936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>
            <a:off x="5219640" y="4005360"/>
            <a:ext cx="12225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 flipH="1" flipV="1">
            <a:off x="2627280" y="2923920"/>
            <a:ext cx="649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 flipV="1">
            <a:off x="5219640" y="1989000"/>
            <a:ext cx="129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7"/>
          <p:cNvSpPr/>
          <p:nvPr/>
        </p:nvSpPr>
        <p:spPr>
          <a:xfrm>
            <a:off x="5580000" y="3789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"/>
          <p:cNvSpPr/>
          <p:nvPr/>
        </p:nvSpPr>
        <p:spPr>
          <a:xfrm>
            <a:off x="5580000" y="378936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V="1">
            <a:off x="5796000" y="278100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4"/>
          <p:cNvSpPr/>
          <p:nvPr/>
        </p:nvSpPr>
        <p:spPr>
          <a:xfrm>
            <a:off x="1116000" y="636588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FF8-26EB-4452-8CB3-41250942A738}" type="slidenum">
              <a:rPr b="0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НОВОЮ ЯКІСНОЇ МЕТОДИЧНОЇ РОБОТИ Є ДІАГНОСТИКА ЩОДО РІВНЯ ТЕОРЕТИКО – ПРАКТИЧНОЇ ПІДГОТОВЛЕНОСТІ ДО ПЕДАГОГІЧНОЇ ДІЯЛЬНОСТІ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755640" y="260280"/>
            <a:ext cx="74199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РЯМКИ  РЕАЛІЗАЦІЇ  ПРОЕКТУ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4000" y="2997360"/>
          <a:ext cx="8496000" cy="3079440"/>
        </p:xfrm>
        <a:graphic>
          <a:graphicData uri="http://schemas.openxmlformats.org/drawingml/2006/table">
            <a:tbl>
              <a:tblPr/>
              <a:tblGrid>
                <a:gridCol w="3816360"/>
                <a:gridCol w="4679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0066"/>
                      </a:solidFill>
                    </a:lnL>
                    <a:lnR w="2880">
                      <a:solidFill>
                        <a:srgbClr val="ff0066"/>
                      </a:solidFill>
                    </a:lnR>
                    <a:lnT w="2880">
                      <a:solidFill>
                        <a:srgbClr val="ff0066"/>
                      </a:solidFill>
                    </a:lnT>
                    <a:lnB w="28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ШЛЯХИ ВИРІШЕННЯ ПРОБЛ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0066"/>
                      </a:solidFill>
                    </a:lnL>
                    <a:lnR w="2880">
                      <a:solidFill>
                        <a:srgbClr val="ff0066"/>
                      </a:solidFill>
                    </a:lnR>
                    <a:lnT w="2880">
                      <a:solidFill>
                        <a:srgbClr val="ff0066"/>
                      </a:solidFill>
                    </a:lnT>
                    <a:lnB w="28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26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Необ</a:t>
                      </a:r>
                      <a:r>
                        <a:rPr b="0" lang="en-US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єктивність  - головна небезпека, яка загальмовує ініціативу навіть творчого вчител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0066"/>
                      </a:solidFill>
                    </a:lnL>
                    <a:lnR w="2880">
                      <a:solidFill>
                        <a:srgbClr val="ff0066"/>
                      </a:solidFill>
                    </a:lnR>
                    <a:lnT w="2880">
                      <a:solidFill>
                        <a:srgbClr val="ff0066"/>
                      </a:solidFill>
                    </a:lnT>
                    <a:lnB w="28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Забезпечення школи сучасним інструментарієм для активного проведення діагностики ( тести, анкети, різні педагогічні задачі в електронному варіанті із відповідним оцінюванням результатів 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0066"/>
                      </a:solidFill>
                    </a:lnL>
                    <a:lnR w="2880">
                      <a:solidFill>
                        <a:srgbClr val="ff0066"/>
                      </a:solidFill>
                    </a:lnR>
                    <a:lnT w="2880">
                      <a:solidFill>
                        <a:srgbClr val="ff0066"/>
                      </a:solidFill>
                    </a:lnT>
                    <a:lnB w="288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3:35:52Z</dcterms:created>
  <dc:creator>Гошина Н.А.</dc:creator>
  <dc:description/>
  <dc:language>en-US</dc:language>
  <cp:lastModifiedBy>User</cp:lastModifiedBy>
  <dcterms:modified xsi:type="dcterms:W3CDTF">2012-11-28T05:08:35Z</dcterms:modified>
  <cp:revision>33</cp:revision>
  <dc:subject/>
  <dc:title>презентація</dc:title>
</cp:coreProperties>
</file>